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F7A-2A06-4B96-8251-C1F9604B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FDC-CB86-4EA3-8FE5-200D53D1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8B5-860D-4801-8A36-EA3CD8A4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D91-C31A-4415-B315-CCF8CEAC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5EA-AA6A-4BCB-A5CD-1577E005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2F0-1F72-41E8-96E9-DF493CFC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E84-7EB2-4E71-950D-7D479F00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612-851E-42E3-81F1-CA191682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A72-9257-40DA-A738-C8A1E142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491-3852-4F71-A394-89454290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FBF-E2DC-4863-A50E-60A879C6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9A9-5688-4881-8CEB-856A6661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6491-5597-4F40-9CB8-74D482E105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209680"/>
            <a:ext cx="644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9880" y="3048120"/>
            <a:ext cx="1143000" cy="457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91160" cy="333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391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2498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391520" cy="121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419720"/>
            <a:ext cx="7238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00100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480" y="4572000"/>
            <a:ext cx="7772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8001000" cy="533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6781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7696080" cy="247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696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289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769608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6400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289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769608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371600" y="4419720"/>
            <a:ext cx="6019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9608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76960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7696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7:09:13Z</dcterms:modified>
  <cp:revision>215</cp:revision>
  <dc:subject/>
  <dc:title>Slide 1</dc:title>
</cp:coreProperties>
</file>